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3CA-03CB-4161-B10E-5E04C0FF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157-DF19-4D0A-BACC-AB81672B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DB5-DF5A-4D69-B42C-F67682A7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0CB-B00D-4561-8B91-810A6990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655-A7CF-49E4-BA76-C1107026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BCE-44DD-4038-9DEE-53BC31D5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376-D9BE-4177-9A73-EE2B4BCC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6B6-EE99-4E7B-858E-32576F97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9AC-EC6D-4739-AF1F-50DDB4C7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17E-B7BE-46CA-A3AB-4BF24BE9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679-2407-4360-AA0E-B9D9C95F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CB0-902D-4865-9410-290991B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16D3-A787-48FD-80FD-73464640C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MORR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/14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piece of printer paper draw 2 Greek and 2 Etruscan influ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ors.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enc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p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or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neath each picture write one sentence on why this influence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name and class # should be written on the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7:38:18Z</dcterms:created>
  <dc:creator>ccps</dc:creator>
  <dc:description/>
  <dc:language>en-US</dc:language>
  <cp:lastModifiedBy>ccps</cp:lastModifiedBy>
  <dcterms:modified xsi:type="dcterms:W3CDTF">2010-04-13T17:38:49Z</dcterms:modified>
  <cp:revision>1</cp:revision>
  <dc:subject/>
  <dc:title>Homework</dc:title>
</cp:coreProperties>
</file>